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3F298-5BC8-419A-B95F-0C1EEA716D5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CAC60-0E34-4E31-B3BB-8672B426BD9A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299AD-C503-459A-93BC-9D666B221A99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59922-1D1D-47AF-8281-6C118D1CF7F3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730B4-5D50-4551-8C8D-8CBFEF9FD6AA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2DD24-2E2B-43B3-BA64-C967DD7531E3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01947-7900-468B-B4D3-4F0297D711CC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4AAB6-621F-43BE-8D4B-7A9A14EA5F33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9696F-8499-406B-A355-70D2E94FFBFA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07EA1-8062-4175-BF84-27A888BC8871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C445B-B535-4751-BA8A-AA7FCF09076D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EECCB-6D94-4D50-8E55-681CDFBBA924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0A11C-FBF3-47DA-884D-B322DD77898B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61E75-6903-4437-AFA8-182F6A4B87E6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B7B85-80C6-484D-90AE-51200EDA7EE7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10F6F-4102-450F-B281-90E48863BFD0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20EDB-9CEC-43A4-B6C1-472361E27961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1A7CC-3B69-4BFD-94AF-37D120672DDF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545CC-D990-458E-A4D0-1145FB88DE1D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64ABC-C847-43F2-B7CE-D0D0307531CB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67BD-8E51-49E1-B025-80B0EE6C6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AAC1-B3E3-4C38-A30A-CED065A12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7509-8D9B-4214-9EEC-49F4980A4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2D5F-6766-49EA-ACBE-DD8E844AB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E5DEE-5835-4E4C-B2D3-DDCF9EC4C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6A9A7-0FDF-4F8C-8486-A07DFCD43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C9386-2AE0-4509-BBCB-79E56577F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B1986-7288-4A63-A5A5-7B6848585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BA81B-C7CF-4E67-B769-87D4088D7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B80B4-88D7-498D-A556-5CCDF2F93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62369-6CB6-49A5-A1D0-285D8739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2708-4B9F-418D-8519-29E8535DD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C41A9-3795-4F29-91C5-04A78C2A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1E71E-A0E8-4368-85F0-63669A0D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D6014-A8A7-46AF-8E35-B0E94D5F5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6EE07-4334-4565-A095-B8A2CB870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16DCD-F4F5-458A-8971-C3890E8A6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B04F-6BC9-40C4-9B5D-F79A6237A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5A65-50A5-4EBA-B9EB-CF21E66B9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C9A3-A7BB-4049-AF1E-533B0C03A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8090-8C5F-42E9-A450-2E07B8A19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25AF-2C21-4A5E-B155-9A95C99C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4F4A-EEAA-4137-9782-2102EF3E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65C5-8B2A-4706-9EB0-0CB03052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7A761-66B2-413F-B1EC-40C764432E6D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8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Line 9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Picture 11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6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6" name="Picture 8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8C58B-C3F2-4965-AC97-EDC3D5B2B120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mailto:g.gasos@ebf-fbe.eu" TargetMode="External"/><Relationship Id="rId2" Type="http://schemas.openxmlformats.org/officeDocument/2006/relationships/hyperlink" Target="mailto:g.gasos@ebf-fbe.eu" TargetMode="External"/><Relationship Id="rId3" Type="http://schemas.openxmlformats.org/officeDocument/2006/relationships/hyperlink" Target="mailto:g.gasos@ebf-fbe.eu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3142800"/>
            <a:ext cx="6481800" cy="115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Summary of EBF response to the </a:t>
            </a:r>
            <a:br>
              <a:rPr sz="2800"/>
            </a:b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Basel Committee proposals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Gonzalo Gasos, EBF Adviser</a:t>
            </a:r>
            <a:br>
              <a:rPr sz="2800"/>
            </a:br>
            <a:br>
              <a:rPr sz="2800"/>
            </a:br>
            <a:r>
              <a:rPr b="0" lang="fr-FR" sz="2000" spc="-1" strike="noStrike">
                <a:solidFill>
                  <a:srgbClr val="0066cc"/>
                </a:solidFill>
                <a:latin typeface="Times New Roman"/>
              </a:rPr>
              <a:t>EBF Associates Meeting</a:t>
            </a:r>
            <a:br>
              <a:rPr sz="2000"/>
            </a:br>
            <a:r>
              <a:rPr b="0" lang="fr-FR" sz="2000" spc="-1" strike="noStrike">
                <a:solidFill>
                  <a:srgbClr val="0066cc"/>
                </a:solidFill>
                <a:latin typeface="Times New Roman"/>
              </a:rPr>
              <a:t>Baku - Azerbaijan</a:t>
            </a:r>
            <a:br>
              <a:rPr sz="2000"/>
            </a:br>
            <a:r>
              <a:rPr b="0" lang="fr-FR" sz="1600" spc="-1" strike="noStrike">
                <a:solidFill>
                  <a:srgbClr val="0066cc"/>
                </a:solidFill>
                <a:latin typeface="Times New Roman"/>
              </a:rPr>
              <a:t>28 May 2010</a:t>
            </a:r>
            <a:endParaRPr b="0" lang="en-US" sz="16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14360" y="259920"/>
            <a:ext cx="5143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Cumulative impact assessment: Real economy.</a:t>
            </a:r>
            <a:br>
              <a:rPr sz="3000"/>
            </a:b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Objectives and challenge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6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E6D28-7D69-4AE6-B2F8-DCBADB3BA8C1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500040" y="1571760"/>
            <a:ext cx="8229600" cy="48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vide EBF arguments with a credible analysis of the likely global macroeconomic impact of proposed regulatory change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To do so in a time frame that will allow for an input into key decisions (e.g. before mid-year 2010)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vide a framework for discussion of this topic in the broader public environment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BUT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ed regulatory changes ill-defined. Need for scenarios and simulation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onventional macro models not much help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Need for data from reliable consistent source 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129" name="Picture 5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93680" y="259920"/>
            <a:ext cx="389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Summary of intended approach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1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B87B7-E8FD-4BDE-A098-397CC4AC8B96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00040" y="1571760"/>
            <a:ext cx="8229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grpSp>
        <p:nvGrpSpPr>
          <p:cNvPr id="134" name="Group 13"/>
          <p:cNvGrpSpPr/>
          <p:nvPr/>
        </p:nvGrpSpPr>
        <p:grpSpPr>
          <a:xfrm>
            <a:off x="571680" y="2063880"/>
            <a:ext cx="8358120" cy="1769760"/>
            <a:chOff x="571680" y="2063880"/>
            <a:chExt cx="8358120" cy="1769760"/>
          </a:xfrm>
        </p:grpSpPr>
        <p:sp>
          <p:nvSpPr>
            <p:cNvPr id="135" name="Text Box 5"/>
            <p:cNvSpPr/>
            <p:nvPr/>
          </p:nvSpPr>
          <p:spPr>
            <a:xfrm>
              <a:off x="571680" y="2063880"/>
              <a:ext cx="1396440" cy="176976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Identify and quantify proposed change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36" name="AutoShape 7"/>
            <p:cNvSpPr/>
            <p:nvPr/>
          </p:nvSpPr>
          <p:spPr>
            <a:xfrm>
              <a:off x="2082960" y="2888280"/>
              <a:ext cx="558360" cy="239760"/>
            </a:xfrm>
            <a:prstGeom prst="rightArrow">
              <a:avLst>
                <a:gd name="adj1" fmla="val 50000"/>
                <a:gd name="adj2" fmla="val 58221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37" name="Text Box 8"/>
            <p:cNvSpPr/>
            <p:nvPr/>
          </p:nvSpPr>
          <p:spPr>
            <a:xfrm>
              <a:off x="2711520" y="2446920"/>
              <a:ext cx="1326600" cy="109944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Model of banking sector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38" name="AutoShape 9"/>
            <p:cNvSpPr/>
            <p:nvPr/>
          </p:nvSpPr>
          <p:spPr>
            <a:xfrm>
              <a:off x="4071960" y="2888280"/>
              <a:ext cx="558360" cy="239760"/>
            </a:xfrm>
            <a:prstGeom prst="rightArrow">
              <a:avLst>
                <a:gd name="adj1" fmla="val 50000"/>
                <a:gd name="adj2" fmla="val 58221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39" name="Text Box 10"/>
            <p:cNvSpPr/>
            <p:nvPr/>
          </p:nvSpPr>
          <p:spPr>
            <a:xfrm>
              <a:off x="4714920" y="2268360"/>
              <a:ext cx="1785960" cy="144864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Assumption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Scenario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Simulation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40" name="AutoShape 11"/>
            <p:cNvSpPr/>
            <p:nvPr/>
          </p:nvSpPr>
          <p:spPr>
            <a:xfrm>
              <a:off x="6572520" y="2888280"/>
              <a:ext cx="558360" cy="239760"/>
            </a:xfrm>
            <a:prstGeom prst="rightArrow">
              <a:avLst>
                <a:gd name="adj1" fmla="val 50000"/>
                <a:gd name="adj2" fmla="val 58221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41" name="Text Box 12"/>
            <p:cNvSpPr/>
            <p:nvPr/>
          </p:nvSpPr>
          <p:spPr>
            <a:xfrm>
              <a:off x="7180920" y="2268360"/>
              <a:ext cx="1748880" cy="143460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Macro impact, especially growth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</p:grpSp>
      <p:sp>
        <p:nvSpPr>
          <p:cNvPr id="142" name="Text Box 12"/>
          <p:cNvSpPr/>
          <p:nvPr/>
        </p:nvSpPr>
        <p:spPr>
          <a:xfrm>
            <a:off x="533520" y="4417920"/>
            <a:ext cx="7848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Expected end results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No magic number, but a framework (and supporting report) that will allow for discussion and debate, both with the public sector and within the private sector 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Lots of sensitivity analysis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143" name="Picture 15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374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Modelling approach in outlin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5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3728B-FE8C-4F6D-81F2-3903F77F32B1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457200" y="1828800"/>
            <a:ext cx="8229600" cy="48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The EBF is collaborating with the IIF to use a simple, spreadsheet-based model with a heavy emphasis on the banking sector. Five blocks: Euro area, U.K., U.S., Japan and Canada.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Models have four components: 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lvl="1" marL="447840" indent="-86040">
              <a:lnSpc>
                <a:spcPct val="100000"/>
              </a:lnSpc>
              <a:spcBef>
                <a:spcPts val="1125"/>
              </a:spcBef>
              <a:buClr>
                <a:srgbClr val="005cad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Banking sector balance-sheet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lvl="1" marL="447840" indent="-86040">
              <a:lnSpc>
                <a:spcPct val="100000"/>
              </a:lnSpc>
              <a:spcBef>
                <a:spcPts val="1125"/>
              </a:spcBef>
              <a:buClr>
                <a:srgbClr val="005cad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Bank capital supply function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lvl="1" marL="447840" indent="-86040">
              <a:lnSpc>
                <a:spcPct val="100000"/>
              </a:lnSpc>
              <a:spcBef>
                <a:spcPts val="1125"/>
              </a:spcBef>
              <a:buClr>
                <a:srgbClr val="005cad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Banking sector profit and loss block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lvl="1" marL="447840" indent="-86040">
              <a:lnSpc>
                <a:spcPct val="100000"/>
              </a:lnSpc>
              <a:spcBef>
                <a:spcPts val="1125"/>
              </a:spcBef>
              <a:buClr>
                <a:srgbClr val="005cad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Macroeconomic block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The models allow a fairly precise articulation and quantification of the key regulatory changes being proposed and their simultaneous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impact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Aside from providing some quantitative estimates of changes, the framework provides a helpful, historic dataset, upon which to base discussion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5072040" y="2786040"/>
            <a:ext cx="39290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And three key behavioral links: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5cad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Cost of bank capital/new issuance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5cad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Private credit demand/lending rate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5cad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Nominal GDP/credit supply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149" name="Picture 7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410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How does the model work?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1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09397-350E-4DBE-A423-40AC613A190A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grpSp>
        <p:nvGrpSpPr>
          <p:cNvPr id="153" name="Group 20"/>
          <p:cNvGrpSpPr/>
          <p:nvPr/>
        </p:nvGrpSpPr>
        <p:grpSpPr>
          <a:xfrm>
            <a:off x="642960" y="1819440"/>
            <a:ext cx="8298000" cy="4109760"/>
            <a:chOff x="642960" y="1819440"/>
            <a:chExt cx="8298000" cy="4109760"/>
          </a:xfrm>
        </p:grpSpPr>
        <p:sp>
          <p:nvSpPr>
            <p:cNvPr id="154" name="Text Box 4"/>
            <p:cNvSpPr/>
            <p:nvPr/>
          </p:nvSpPr>
          <p:spPr>
            <a:xfrm>
              <a:off x="642960" y="2475720"/>
              <a:ext cx="1438560" cy="210492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To achieve higher required capital ratio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5" name="AutoShape 5"/>
            <p:cNvSpPr/>
            <p:nvPr/>
          </p:nvSpPr>
          <p:spPr>
            <a:xfrm rot="2430600">
              <a:off x="2225160" y="427464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6" name="Text Box 6"/>
            <p:cNvSpPr/>
            <p:nvPr/>
          </p:nvSpPr>
          <p:spPr>
            <a:xfrm>
              <a:off x="2945160" y="2726280"/>
              <a:ext cx="1222920" cy="109944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Issue new equity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7" name="AutoShape 7"/>
            <p:cNvSpPr/>
            <p:nvPr/>
          </p:nvSpPr>
          <p:spPr>
            <a:xfrm>
              <a:off x="4312080" y="285660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8" name="Text Box 8"/>
            <p:cNvSpPr/>
            <p:nvPr/>
          </p:nvSpPr>
          <p:spPr>
            <a:xfrm>
              <a:off x="5103360" y="2287080"/>
              <a:ext cx="1438560" cy="143460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Higher cost of funding to bank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9" name="AutoShape 9"/>
            <p:cNvSpPr/>
            <p:nvPr/>
          </p:nvSpPr>
          <p:spPr>
            <a:xfrm>
              <a:off x="6686280" y="321624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0" name="Text Box 10"/>
            <p:cNvSpPr/>
            <p:nvPr/>
          </p:nvSpPr>
          <p:spPr>
            <a:xfrm>
              <a:off x="7430400" y="2857320"/>
              <a:ext cx="1510560" cy="210492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Higher lending spread to private sector borrower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1" name="Text Box 12"/>
            <p:cNvSpPr/>
            <p:nvPr/>
          </p:nvSpPr>
          <p:spPr>
            <a:xfrm>
              <a:off x="2967480" y="3949200"/>
              <a:ext cx="1319040" cy="109944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Increase retained profit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2" name="AutoShape 13"/>
            <p:cNvSpPr/>
            <p:nvPr/>
          </p:nvSpPr>
          <p:spPr>
            <a:xfrm rot="19168800">
              <a:off x="2225160" y="323136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3" name="AutoShape 7"/>
            <p:cNvSpPr/>
            <p:nvPr/>
          </p:nvSpPr>
          <p:spPr>
            <a:xfrm>
              <a:off x="4383720" y="4511520"/>
              <a:ext cx="2661840" cy="215640"/>
            </a:xfrm>
            <a:prstGeom prst="rightArrow">
              <a:avLst>
                <a:gd name="adj1" fmla="val 50000"/>
                <a:gd name="adj2" fmla="val 308598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4" name="Rectangle 2"/>
            <p:cNvSpPr/>
            <p:nvPr/>
          </p:nvSpPr>
          <p:spPr>
            <a:xfrm>
              <a:off x="714600" y="5137920"/>
              <a:ext cx="8184960" cy="79128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Complications: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Do banks have 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Which route to higher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pricing power to 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        equity will be chosen?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    raise lending rates?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5" name="AutoShape 13"/>
            <p:cNvSpPr/>
            <p:nvPr/>
          </p:nvSpPr>
          <p:spPr>
            <a:xfrm rot="19168800">
              <a:off x="2225160" y="226008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6" name="Text Box 6"/>
            <p:cNvSpPr/>
            <p:nvPr/>
          </p:nvSpPr>
          <p:spPr>
            <a:xfrm>
              <a:off x="2945160" y="1819440"/>
              <a:ext cx="1222920" cy="76428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Cut RWA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7" name="AutoShape 7"/>
            <p:cNvSpPr/>
            <p:nvPr/>
          </p:nvSpPr>
          <p:spPr>
            <a:xfrm>
              <a:off x="4312080" y="1900080"/>
              <a:ext cx="4604400" cy="215640"/>
            </a:xfrm>
            <a:prstGeom prst="rightArrow">
              <a:avLst>
                <a:gd name="adj1" fmla="val 50000"/>
                <a:gd name="adj2" fmla="val 533806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</p:grpSp>
      <p:pic>
        <p:nvPicPr>
          <p:cNvPr id="168" name="Picture 21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893680" y="259920"/>
            <a:ext cx="403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How does the model work?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70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40030-BB33-45AA-932C-81B354369777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grpSp>
        <p:nvGrpSpPr>
          <p:cNvPr id="172" name="Group 43"/>
          <p:cNvGrpSpPr/>
          <p:nvPr/>
        </p:nvGrpSpPr>
        <p:grpSpPr>
          <a:xfrm>
            <a:off x="500040" y="1643040"/>
            <a:ext cx="8501040" cy="4714560"/>
            <a:chOff x="500040" y="1643040"/>
            <a:chExt cx="8501040" cy="4714560"/>
          </a:xfrm>
        </p:grpSpPr>
        <p:sp>
          <p:nvSpPr>
            <p:cNvPr id="173" name="Text Box 4"/>
            <p:cNvSpPr/>
            <p:nvPr/>
          </p:nvSpPr>
          <p:spPr>
            <a:xfrm>
              <a:off x="793080" y="4472280"/>
              <a:ext cx="2491560" cy="100872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cad"/>
                  </a:solidFill>
                  <a:latin typeface="Arial"/>
                </a:rPr>
                <a:t>Availability of credit from non-bank sources</a:t>
              </a:r>
              <a:endParaRPr b="0" lang="en-US" sz="20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4" name="AutoShape 5"/>
            <p:cNvSpPr/>
            <p:nvPr/>
          </p:nvSpPr>
          <p:spPr>
            <a:xfrm rot="19807200">
              <a:off x="3358080" y="4543560"/>
              <a:ext cx="586080" cy="214200"/>
            </a:xfrm>
            <a:prstGeom prst="rightArrow">
              <a:avLst>
                <a:gd name="adj1" fmla="val 50000"/>
                <a:gd name="adj2" fmla="val 68403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5" name="Text Box 8"/>
            <p:cNvSpPr/>
            <p:nvPr/>
          </p:nvSpPr>
          <p:spPr>
            <a:xfrm>
              <a:off x="4000320" y="3071880"/>
              <a:ext cx="1407600" cy="161856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cad"/>
                  </a:solidFill>
                  <a:latin typeface="Arial"/>
                </a:rPr>
                <a:t>Aggregate whole economy credit supply</a:t>
              </a:r>
              <a:endParaRPr b="0" lang="en-US" sz="20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6" name="AutoShape 9"/>
            <p:cNvSpPr/>
            <p:nvPr/>
          </p:nvSpPr>
          <p:spPr>
            <a:xfrm>
              <a:off x="5410080" y="3758040"/>
              <a:ext cx="586080" cy="214200"/>
            </a:xfrm>
            <a:prstGeom prst="rightArrow">
              <a:avLst>
                <a:gd name="adj1" fmla="val 50000"/>
                <a:gd name="adj2" fmla="val 68403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7" name="Text Box 10"/>
            <p:cNvSpPr/>
            <p:nvPr/>
          </p:nvSpPr>
          <p:spPr>
            <a:xfrm>
              <a:off x="5996520" y="2900520"/>
              <a:ext cx="1392120" cy="192348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cad"/>
                  </a:solidFill>
                  <a:latin typeface="Arial"/>
                </a:rPr>
                <a:t>Nominal GDP driven by aggregate credit supply</a:t>
              </a:r>
              <a:endParaRPr b="0" lang="en-US" sz="20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8" name="Line 11"/>
            <p:cNvSpPr/>
            <p:nvPr/>
          </p:nvSpPr>
          <p:spPr>
            <a:xfrm>
              <a:off x="719640" y="1643040"/>
              <a:ext cx="7841520" cy="0"/>
            </a:xfrm>
            <a:prstGeom prst="line">
              <a:avLst/>
            </a:prstGeom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9" name="AutoShape 13"/>
            <p:cNvSpPr/>
            <p:nvPr/>
          </p:nvSpPr>
          <p:spPr>
            <a:xfrm rot="2058000">
              <a:off x="3431160" y="2828880"/>
              <a:ext cx="586080" cy="214200"/>
            </a:xfrm>
            <a:prstGeom prst="rightArrow">
              <a:avLst>
                <a:gd name="adj1" fmla="val 50000"/>
                <a:gd name="adj2" fmla="val 68403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grpSp>
          <p:nvGrpSpPr>
            <p:cNvPr id="180" name="Group 29"/>
            <p:cNvGrpSpPr/>
            <p:nvPr/>
          </p:nvGrpSpPr>
          <p:grpSpPr>
            <a:xfrm>
              <a:off x="795960" y="1643040"/>
              <a:ext cx="2781360" cy="2451960"/>
              <a:chOff x="795960" y="1643040"/>
              <a:chExt cx="2781360" cy="2451960"/>
            </a:xfrm>
          </p:grpSpPr>
          <p:sp>
            <p:nvSpPr>
              <p:cNvPr id="181" name="Line 15"/>
              <p:cNvSpPr/>
              <p:nvPr/>
            </p:nvSpPr>
            <p:spPr>
              <a:xfrm>
                <a:off x="795960" y="1829160"/>
                <a:ext cx="0" cy="1928520"/>
              </a:xfrm>
              <a:prstGeom prst="line">
                <a:avLst/>
              </a:prstGeom>
              <a:ln w="19080">
                <a:solidFill>
                  <a:srgbClr val="005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2" name="Line 16"/>
              <p:cNvSpPr/>
              <p:nvPr/>
            </p:nvSpPr>
            <p:spPr>
              <a:xfrm>
                <a:off x="795960" y="3757680"/>
                <a:ext cx="2418480" cy="0"/>
              </a:xfrm>
              <a:prstGeom prst="line">
                <a:avLst/>
              </a:prstGeom>
              <a:ln w="19080">
                <a:solidFill>
                  <a:srgbClr val="005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3" name="Line 17"/>
              <p:cNvSpPr/>
              <p:nvPr/>
            </p:nvSpPr>
            <p:spPr>
              <a:xfrm>
                <a:off x="1088640" y="2043360"/>
                <a:ext cx="1832040" cy="1356840"/>
              </a:xfrm>
              <a:prstGeom prst="line">
                <a:avLst/>
              </a:prstGeom>
              <a:ln w="19080">
                <a:solidFill>
                  <a:srgbClr val="f6801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4" name="Line 18"/>
              <p:cNvSpPr/>
              <p:nvPr/>
            </p:nvSpPr>
            <p:spPr>
              <a:xfrm flipV="1">
                <a:off x="1497960" y="2291760"/>
                <a:ext cx="1612440" cy="1357200"/>
              </a:xfrm>
              <a:prstGeom prst="line">
                <a:avLst/>
              </a:prstGeom>
              <a:ln w="19080">
                <a:solidFill>
                  <a:srgbClr val="005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5" name="Line 19"/>
              <p:cNvSpPr/>
              <p:nvPr/>
            </p:nvSpPr>
            <p:spPr>
              <a:xfrm flipV="1">
                <a:off x="917640" y="1841040"/>
                <a:ext cx="1612440" cy="1357200"/>
              </a:xfrm>
              <a:prstGeom prst="line">
                <a:avLst/>
              </a:prstGeom>
              <a:ln w="19080">
                <a:solidFill>
                  <a:srgbClr val="005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6" name="Text Box 20"/>
              <p:cNvSpPr/>
              <p:nvPr/>
            </p:nvSpPr>
            <p:spPr>
              <a:xfrm>
                <a:off x="2994480" y="3266280"/>
                <a:ext cx="366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7" name="Text Box 21"/>
              <p:cNvSpPr/>
              <p:nvPr/>
            </p:nvSpPr>
            <p:spPr>
              <a:xfrm>
                <a:off x="3137760" y="2077560"/>
                <a:ext cx="439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S</a:t>
                </a:r>
                <a:r>
                  <a:rPr b="0" lang="en-US" sz="1000" spc="-1" strike="noStrike">
                    <a:solidFill>
                      <a:srgbClr val="005cad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8" name="Text Box 22"/>
              <p:cNvSpPr/>
              <p:nvPr/>
            </p:nvSpPr>
            <p:spPr>
              <a:xfrm>
                <a:off x="2531880" y="1643040"/>
                <a:ext cx="439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S</a:t>
                </a:r>
                <a:r>
                  <a:rPr b="0" lang="en-US" sz="1000" spc="-1" strike="noStrike">
                    <a:solidFill>
                      <a:srgbClr val="005cad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9" name="Text Box 23"/>
              <p:cNvSpPr/>
              <p:nvPr/>
            </p:nvSpPr>
            <p:spPr>
              <a:xfrm>
                <a:off x="2188080" y="3757680"/>
                <a:ext cx="532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Q</a:t>
                </a:r>
                <a:r>
                  <a:rPr b="0" lang="en-US" sz="1000" spc="-1" strike="noStrike">
                    <a:solidFill>
                      <a:srgbClr val="005cad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90" name="Line 24"/>
              <p:cNvSpPr/>
              <p:nvPr/>
            </p:nvSpPr>
            <p:spPr>
              <a:xfrm>
                <a:off x="2322360" y="2986560"/>
                <a:ext cx="0" cy="770760"/>
              </a:xfrm>
              <a:prstGeom prst="line">
                <a:avLst/>
              </a:prstGeom>
              <a:ln w="9360">
                <a:solidFill>
                  <a:srgbClr val="005c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91" name="Line 25"/>
              <p:cNvSpPr/>
              <p:nvPr/>
            </p:nvSpPr>
            <p:spPr>
              <a:xfrm>
                <a:off x="1724040" y="2528280"/>
                <a:ext cx="0" cy="1229040"/>
              </a:xfrm>
              <a:prstGeom prst="line">
                <a:avLst/>
              </a:prstGeom>
              <a:ln w="9360">
                <a:solidFill>
                  <a:srgbClr val="005c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92" name="Text Box 26"/>
              <p:cNvSpPr/>
              <p:nvPr/>
            </p:nvSpPr>
            <p:spPr>
              <a:xfrm>
                <a:off x="1455480" y="3757680"/>
                <a:ext cx="532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Q</a:t>
                </a:r>
                <a:r>
                  <a:rPr b="0" lang="en-US" sz="1000" spc="-1" strike="noStrike">
                    <a:solidFill>
                      <a:srgbClr val="005cad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93" name="Line 27"/>
              <p:cNvSpPr/>
              <p:nvPr/>
            </p:nvSpPr>
            <p:spPr>
              <a:xfrm flipH="1">
                <a:off x="1841400" y="3927240"/>
                <a:ext cx="346320" cy="0"/>
              </a:xfrm>
              <a:prstGeom prst="line">
                <a:avLst/>
              </a:prstGeom>
              <a:ln w="9360">
                <a:solidFill>
                  <a:srgbClr val="005cad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</p:grpSp>
        <p:sp>
          <p:nvSpPr>
            <p:cNvPr id="194" name="Text Box 10"/>
            <p:cNvSpPr/>
            <p:nvPr/>
          </p:nvSpPr>
          <p:spPr>
            <a:xfrm>
              <a:off x="8121960" y="3472200"/>
              <a:ext cx="879120" cy="70380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cad"/>
                  </a:solidFill>
                  <a:latin typeface="Arial"/>
                </a:rPr>
                <a:t>Real GDP</a:t>
              </a:r>
              <a:endParaRPr b="0" lang="en-US" sz="20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95" name="AutoShape 9"/>
            <p:cNvSpPr/>
            <p:nvPr/>
          </p:nvSpPr>
          <p:spPr>
            <a:xfrm>
              <a:off x="7462080" y="3766680"/>
              <a:ext cx="586080" cy="214200"/>
            </a:xfrm>
            <a:prstGeom prst="rightArrow">
              <a:avLst>
                <a:gd name="adj1" fmla="val 50000"/>
                <a:gd name="adj2" fmla="val 68403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96" name="Rectangle 2"/>
            <p:cNvSpPr/>
            <p:nvPr/>
          </p:nvSpPr>
          <p:spPr>
            <a:xfrm>
              <a:off x="500040" y="5572080"/>
              <a:ext cx="8337960" cy="78552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Complications: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How much can non-banks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   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substitute for banks?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</p:grpSp>
      <p:pic>
        <p:nvPicPr>
          <p:cNvPr id="197" name="Picture 41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Preliminary results</a:t>
            </a:r>
            <a:br>
              <a:rPr sz="3000"/>
            </a:b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IIF approach</a:t>
            </a:r>
            <a:br>
              <a:rPr sz="3400"/>
            </a:b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00040" y="1643040"/>
            <a:ext cx="8072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 the regulatory change scenario, the real GDP is projected to be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2.5% lower in the US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1.9% lower in Japan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4% lower in the Euro Area – the largest banking system -.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Banks of these 3 economies will need to raise $0.8 trillion of common equity and issue $3.7 trillion of long-term debt in 2010-2015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banks lending spread to the private sector in the Euro Area would increase as much as 180 bp at the peak (2013)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0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01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07F0B-C3D7-4A4E-821E-0D5B8A43CF5E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Real bank lending rate (top)</a:t>
            </a:r>
            <a:br>
              <a:rPr sz="3000"/>
            </a:b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Core equity shadow price (bottom)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1989000" y="1643040"/>
            <a:ext cx="4789800" cy="24289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"/>
          <p:cNvPicPr/>
          <p:nvPr/>
        </p:nvPicPr>
        <p:blipFill>
          <a:blip r:embed="rId2"/>
          <a:stretch/>
        </p:blipFill>
        <p:spPr>
          <a:xfrm>
            <a:off x="1984320" y="4214880"/>
            <a:ext cx="4802400" cy="2500200"/>
          </a:xfrm>
          <a:prstGeom prst="rect">
            <a:avLst/>
          </a:prstGeom>
          <a:ln w="0">
            <a:noFill/>
          </a:ln>
        </p:spPr>
      </p:pic>
      <p:sp>
        <p:nvSpPr>
          <p:cNvPr id="206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EEE00-94C8-45C0-BB2C-EC2E93B8A27F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Bank credit growth to private sector (top)</a:t>
            </a:r>
            <a:br>
              <a:rPr sz="2600"/>
            </a:b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Banks’ return on equity (bottom)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09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35676-B7D1-4130-851B-F660096DC5F5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2143080" y="1714680"/>
            <a:ext cx="4659480" cy="24177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"/>
          <p:cNvPicPr/>
          <p:nvPr/>
        </p:nvPicPr>
        <p:blipFill>
          <a:blip r:embed="rId2"/>
          <a:stretch/>
        </p:blipFill>
        <p:spPr>
          <a:xfrm>
            <a:off x="2143080" y="4286160"/>
            <a:ext cx="464364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GDP cumulative (top)</a:t>
            </a:r>
            <a:br>
              <a:rPr sz="3000"/>
            </a:b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mployment (bottom)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13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14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4BC36-0433-438E-B480-7CBB8795B230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2071800" y="1714680"/>
            <a:ext cx="4811760" cy="24476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"/>
          <p:cNvPicPr/>
          <p:nvPr/>
        </p:nvPicPr>
        <p:blipFill>
          <a:blip r:embed="rId2"/>
          <a:stretch/>
        </p:blipFill>
        <p:spPr>
          <a:xfrm>
            <a:off x="2071800" y="4272120"/>
            <a:ext cx="4827600" cy="24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anks for your attention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Doubts, comments, opinions would be welcome 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v.proskurovska@ebf-fbe.eu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g.gasos@ebf-fbe.eu</a:t>
            </a:r>
            <a:r>
              <a:rPr b="0" lang="en-GB" sz="25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18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19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49AAD-AD06-4510-838E-4B4310AD54F7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220" name="Picture 5" descr="Logo IIF.JPG"/>
          <p:cNvPicPr/>
          <p:nvPr/>
        </p:nvPicPr>
        <p:blipFill>
          <a:blip r:embed="rId4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7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8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DA0F7-3714-4142-8A29-0F5FE4A67A68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500040" y="2093760"/>
            <a:ext cx="822960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EBF welcomes the willingness to strengthen the resilience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Firstly, need for improved supervision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Newness and complexity of proposals require further analysis and a second consultation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ay heed to the interplays between different measure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Assessment of the overall impact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1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1D0CB-86A7-47F6-880B-CEE24E48E1B8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500040" y="1932120"/>
            <a:ext cx="822960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INCIPLE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eservation of banks’ lending capacity in the EU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onsistency in regulations (single rulebook)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International level playing field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Banking sector competitive edge notably the ability to raise new capital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5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F43DB-0BA5-43DE-82E5-01C6160E1D2E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500040" y="1916280"/>
            <a:ext cx="8229600" cy="38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A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Transition period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Grandfathering arrangemen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Minority interes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Deferred tax asse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ension fund asse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9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DC65C-4CC3-4B82-9714-B918BE77984A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539640" y="1628640"/>
            <a:ext cx="8229600" cy="49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A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ounterparty risk overlapping elemen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mote the use of central clering counterparties without penalizing OTC derivative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eserve the right incentives to risk management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The appropriateness of Pillar 2: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Leverage ratio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apital buffer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ounterparty risk 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3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7531B-D272-4F00-84F2-59047B3A9E8F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500040" y="2093760"/>
            <a:ext cx="8229600" cy="38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A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EBF supports the provisioning based on expected los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But not the downturn probability of default in pillar 1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Restrictions to dividend pay-ou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Excessive credit growth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7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7754D-8E3A-4D4E-9EBD-904D75C8B1A8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500040" y="2093760"/>
            <a:ext cx="822960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A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Liquidity ratio accepted but need to review the detai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Net stable funding ratio would distort maturity transformation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Need for re-thinking the NSFR proposal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Interplays: the combination of liquidity ratios, capital buffers and stringent definition of capital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14240" y="3142800"/>
            <a:ext cx="7772400" cy="115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ssessing the Cumulative Impact of Proposed Regulatory Changes </a:t>
            </a:r>
            <a:br>
              <a:rPr sz="2800"/>
            </a:br>
            <a:br>
              <a:rPr sz="2800"/>
            </a:br>
            <a:r>
              <a:rPr b="0" lang="fr-FR" sz="2800" spc="-1" strike="noStrike">
                <a:solidFill>
                  <a:srgbClr val="0066cc"/>
                </a:solidFill>
                <a:latin typeface="Times New Roman"/>
              </a:rPr>
              <a:t>EBF Associates Meeting</a:t>
            </a:r>
            <a:br>
              <a:rPr sz="2800"/>
            </a:br>
            <a:br>
              <a:rPr sz="2800"/>
            </a:br>
            <a:r>
              <a:rPr b="0" lang="fr-FR" sz="2800" spc="-1" strike="noStrike">
                <a:solidFill>
                  <a:srgbClr val="0066cc"/>
                </a:solidFill>
                <a:latin typeface="Times New Roman"/>
              </a:rPr>
              <a:t>Baku - Azerbaijan</a:t>
            </a:r>
            <a:br>
              <a:rPr sz="2800"/>
            </a:br>
            <a:r>
              <a:rPr b="0" lang="fr-FR" sz="2000" spc="-1" strike="noStrike">
                <a:solidFill>
                  <a:srgbClr val="0066cc"/>
                </a:solidFill>
                <a:latin typeface="Times New Roman"/>
              </a:rPr>
              <a:t>28 May 2010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Cumulative impact assessment: Banking sector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2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65B86-09D4-4004-B590-BD63C92E07F9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627200" y="1643040"/>
            <a:ext cx="594504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06:13:41Z</dcterms:created>
  <dc:creator>Gonzalo Gasos</dc:creator>
  <dc:description/>
  <dc:language>en-US</dc:language>
  <cp:lastModifiedBy>Viktorija Proskurovska</cp:lastModifiedBy>
  <dcterms:modified xsi:type="dcterms:W3CDTF">2010-06-01T07:14:05Z</dcterms:modified>
  <cp:revision>421</cp:revision>
  <dc:subject/>
  <dc:title>ICAAP Seminar Rome, 20-22 October 2009</dc:title>
</cp:coreProperties>
</file>